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A85-9381-4FC2-9AA9-25BA6D33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1E7-0521-4DFD-BBA7-5B99563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8F9-7D95-4A87-B130-25233450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796-2239-43A4-8D2A-11E32993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A869-CB86-40E3-BFDE-963435B0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11B7-346D-4302-A0F3-8FB28737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034A-3F5A-4DF1-B516-25A69978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2D73-1E4C-4022-8B86-7BFEA0C7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E24E-F789-47B3-93EA-8447CA1C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05DB-1AD3-456C-8B7D-7CA3ECFD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03F6-70BF-4E2B-83CC-487B8E68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AF9-5080-4103-9C4F-6213FA64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F874-2EE9-4297-9BFB-EBC78255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C4C5-707B-46A1-891D-DA8570C1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1575-2785-4345-9F0B-092749C9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C11F-D9E1-41DC-B1A1-62954E02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D569-2E51-4B1D-B403-8E6141F6A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73B0-0308-42EF-9C9E-AF2DFBA2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BAAD3-2CDC-4933-AC5D-43A9EA05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23F8-CD06-4E9E-9477-5852A8B7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A7C1-9203-4D27-8B3F-E40C2DE2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E753-F048-4A3B-A254-82E5801B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7AE-61F7-4A7F-918F-B8B5F078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58F5C-D223-486D-84CA-BAAA4DF1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0C9C-5613-40A3-86F7-868AB3D0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5459-8FAC-49D0-B2F6-7F54279C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FB41-3E1F-447C-971F-FECF185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12A7D-F2A7-40AD-A988-6740C657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FC15-AADF-424D-A861-444B9999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0165-CE5A-4A20-A336-BB42E17D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C54B-A18A-4DF5-A9E4-E1236A64D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B2A1-B416-4829-A8CD-EEDD9F0F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A2E25-96DD-4948-B4DB-B890D93F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76C-1271-4364-900F-59CC4A8C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6ED49-900B-443F-AC0C-3E0C0539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61CA-177F-4299-96CF-CF6B42DF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6E14-E096-44B5-86DC-148BF31B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E3D5-2BEF-4D8D-AFDD-1166E425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25152-EF6D-4BE7-8367-D4AAB768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0CF1-BF5C-4EF3-B5A3-76FFFE8A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38AC6-8D66-4280-A13C-FD5F8A91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B2B33-1B83-482D-B03F-89B68248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D48F-D1E7-4495-A5CB-C909BE3E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2F17-DBBC-418A-ABA4-F4595670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031-9C93-4DDA-BE11-9A6612BA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50E3-AB8D-430C-B983-2C98F549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2786E-8D75-4C31-ADD2-B8EAFFAA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6AD01-A1DE-4E41-A85C-0769930E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BC4B2-CCDD-4DE7-B38F-606B81D8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A62CD-31FA-411C-AFF7-A4CBC214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74532-A296-4B9C-ABCB-3AE04BFE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E8FC8-F2A3-48C8-87D2-0F0E008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2A5E3-69F8-448D-9CB4-D7DECEBE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677C5-D3DD-4207-AF8C-0DE10400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32B6F-E048-4BEB-98F3-B146940F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638A-6E02-4DBA-B034-29930D71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3195F-4A67-4B9C-8BE3-8460F34B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10FBB-42B8-43CD-8509-27EDA63A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F1149-485C-4F46-AA30-8E2747E3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5E438-46CF-4D45-AB25-84209FEF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C8226-5E61-4B81-9268-959338FC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F3E49-2CF1-45E3-A2C3-562D9242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01A72-A36D-4358-9BB4-DF8B12CD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99497-CF36-4DAD-8357-8AB3CFA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F9244-2D7C-462C-874B-CAA904B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A071A-EED2-4B34-8AD0-2D6F5B61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A53-6985-462A-AB74-E4667674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3EE16-D9A6-4487-83DF-0D09C0B7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E6E3F-857D-442A-BDF9-76AC5A15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FB640-6637-47CD-B0FC-3B79B866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E1C77-DA49-4133-9D2E-79523607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2A6C5-F671-443D-B859-559A1E9E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599B5-5A18-4A62-90FD-D19B226E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2EF4-5A4B-4AE5-BE68-28FA6401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2D13C-7E67-4617-A4AC-7055AB9E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FAED3-BB27-4E56-B36A-DB6B9BC3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2CDCA-3ADE-4C95-9067-3ADB2CC0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374-CCCD-4284-9331-A9A9EAF0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5F1D-E4F6-476F-AEFD-E22FE89E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778E1-4536-47A5-940E-5A314E9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66FD-23D8-4013-9D1C-6590095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F5075-173C-4015-9B8D-E99517A3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670AE-EC35-4408-94DC-BF7C51AC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CA7-77C4-40C0-A3DD-76A81929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F2E7-74DA-40D6-8BA5-C999513D889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8139-9ADE-444B-B42C-17BA63CE43F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2E0E-200C-46A8-8F75-0E4F43AADA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2969-705D-4A44-924E-CA6E288F27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EB50-43FE-4577-88BD-E3AF1BAF0DE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C2A1-65DD-45B0-9392-9A52F02143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6E14-B23C-4CCD-ACBB-B039616084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ner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hapter 3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re Minerals For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1143000" y="2286000"/>
            <a:ext cx="7791120" cy="3962160"/>
            <a:chOff x="1143000" y="2286000"/>
            <a:chExt cx="7791120" cy="3962160"/>
          </a:xfrm>
        </p:grpSpPr>
        <p:sp>
          <p:nvSpPr>
            <p:cNvPr id="347" name="Rectangle 11"/>
            <p:cNvSpPr/>
            <p:nvPr/>
          </p:nvSpPr>
          <p:spPr>
            <a:xfrm>
              <a:off x="1143000" y="2286000"/>
              <a:ext cx="7791120" cy="369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12" descr="Minerals_whereform2_sx5242b3"/>
            <p:cNvPicPr/>
            <p:nvPr/>
          </p:nvPicPr>
          <p:blipFill>
            <a:blip r:embed="rId1"/>
            <a:stretch/>
          </p:blipFill>
          <p:spPr>
            <a:xfrm>
              <a:off x="1623240" y="2312280"/>
              <a:ext cx="6994800" cy="39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Using Mineral Resourc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nerals make many different product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msto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ods, medic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ertiliz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ilding materi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ducing Metals from Miner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rospect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searching for an ore depos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Min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strip mines, open pit mines, shaft mi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melt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ore is mixed with other substances  and then melted to sepa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urther Processing- used to remove impur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roperties of Miner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mineral is a naturally occurring, inorganic solid that has a crystal structure and a definite chemical compos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st have all 5 of the following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0760" indent="-4831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urally Occur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60760" indent="-4831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organ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60760" indent="-4831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60760" indent="-4831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ystal Struc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60760" indent="-4831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inite chemical composi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dentifying Miner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ch mineral has characteristic properties that can be used to identify 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olo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can only be used to identify those few minerals that always have their own characteristic col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trea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 color of its powder can provide a clue to mineral ident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ust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scribes how light is reflected from a mineral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dentifying Miner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Dens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Each mineral has a characteristic density (Density= Mass/Volum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Hardn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Measuring minerals hardness is one of the best ways to identify a mine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hs hardness scale- ranks 10 minerals from softest to hard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determined by a scratch t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dentifying Mineral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Crystal Systems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classify crystal structure into 6 groups based on number and angle of crystal fa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8" name="Group 34"/>
          <p:cNvGrpSpPr/>
          <p:nvPr/>
        </p:nvGrpSpPr>
        <p:grpSpPr>
          <a:xfrm>
            <a:off x="1066680" y="3048120"/>
            <a:ext cx="2210040" cy="3428640"/>
            <a:chOff x="1066680" y="3048120"/>
            <a:chExt cx="2210040" cy="3428640"/>
          </a:xfrm>
        </p:grpSpPr>
        <p:sp>
          <p:nvSpPr>
            <p:cNvPr id="329" name="Rectangle 26"/>
            <p:cNvSpPr/>
            <p:nvPr/>
          </p:nvSpPr>
          <p:spPr>
            <a:xfrm>
              <a:off x="1066680" y="3048120"/>
              <a:ext cx="2210040" cy="30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24" descr="Minerals_P121_Crystals4_sx5615a3r"/>
            <p:cNvPicPr/>
            <p:nvPr/>
          </p:nvPicPr>
          <p:blipFill>
            <a:blip r:embed="rId1"/>
            <a:stretch/>
          </p:blipFill>
          <p:spPr>
            <a:xfrm>
              <a:off x="1085400" y="3179160"/>
              <a:ext cx="2169720" cy="329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35"/>
          <p:cNvGrpSpPr/>
          <p:nvPr/>
        </p:nvGrpSpPr>
        <p:grpSpPr>
          <a:xfrm>
            <a:off x="3200400" y="2971800"/>
            <a:ext cx="2895480" cy="3124080"/>
            <a:chOff x="3200400" y="2971800"/>
            <a:chExt cx="2895480" cy="3124080"/>
          </a:xfrm>
        </p:grpSpPr>
        <p:sp>
          <p:nvSpPr>
            <p:cNvPr id="332" name="Rectangle 29"/>
            <p:cNvSpPr/>
            <p:nvPr/>
          </p:nvSpPr>
          <p:spPr>
            <a:xfrm>
              <a:off x="3200400" y="2971800"/>
              <a:ext cx="2895480" cy="312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28" descr="Minerals_P121_Crystals5_sx5615a3r"/>
            <p:cNvPicPr/>
            <p:nvPr/>
          </p:nvPicPr>
          <p:blipFill>
            <a:blip r:embed="rId2"/>
            <a:stretch/>
          </p:blipFill>
          <p:spPr>
            <a:xfrm>
              <a:off x="3364560" y="3369960"/>
              <a:ext cx="2533320" cy="271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33"/>
          <p:cNvGrpSpPr/>
          <p:nvPr/>
        </p:nvGrpSpPr>
        <p:grpSpPr>
          <a:xfrm>
            <a:off x="6095880" y="2819520"/>
            <a:ext cx="2667240" cy="3581280"/>
            <a:chOff x="6095880" y="2819520"/>
            <a:chExt cx="2667240" cy="3581280"/>
          </a:xfrm>
        </p:grpSpPr>
        <p:sp>
          <p:nvSpPr>
            <p:cNvPr id="335" name="Rectangle 32"/>
            <p:cNvSpPr/>
            <p:nvPr/>
          </p:nvSpPr>
          <p:spPr>
            <a:xfrm>
              <a:off x="6095880" y="2819520"/>
              <a:ext cx="2667240" cy="350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31" descr="Minerals_P121_Crystals6_sx5615a3r"/>
            <p:cNvPicPr/>
            <p:nvPr/>
          </p:nvPicPr>
          <p:blipFill>
            <a:blip r:embed="rId3"/>
            <a:stretch/>
          </p:blipFill>
          <p:spPr>
            <a:xfrm>
              <a:off x="6101280" y="2819520"/>
              <a:ext cx="2591280" cy="358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dentifying Minera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Cleavage and Fracture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The way a mineral breaks apart can help identify i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mineral that splits easily along flat surfaces has the property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eava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a mineral looks when it breaks apart in an irregular way i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frac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pecial Properties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some minerals can be identified by special physical proper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- magnetism, fluoresc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Minerals For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Crystalliza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the process by which atoms are arranged to form a material with a crystal struc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general, minerals can form in two way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y crystallization of molten materi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y crystallization of materials dissolved in wa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nerals from Magma and Lav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Magm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molten material from inside Earth that hardens to form ro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av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magma that reaches the surf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so forms rock when it cools and hard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nerals form as hot magma cools inside Earth, or as lava hardens on the surface; when they cool to a solid state, they form cryst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nerals from Solution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a mixture in which one substance is dissolved in ano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elements and compounds that are dissolved in water leave a solution, crystallization occu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med by evapo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rmed from hot water solu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ein- a narrow channel or slab of a mineral that is different from the surrounding ro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8:51Z</dcterms:created>
  <dc:creator>Falcon School District 49</dc:creator>
  <dc:description/>
  <dc:language>en-US</dc:language>
  <cp:lastModifiedBy>Falcon School District 49</cp:lastModifiedBy>
  <dcterms:modified xsi:type="dcterms:W3CDTF">2009-12-21T19:06:21Z</dcterms:modified>
  <cp:revision>6</cp:revision>
  <dc:subject/>
  <dc:title>Minerals</dc:title>
</cp:coreProperties>
</file>